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FC2-4423-4E63-B15C-2A4901C0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4D5-954F-49F2-9180-51BAF0A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875-4366-4B8C-8CEF-0FEBC3EA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185-80FB-46CB-83FC-545F09F4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DB7C-4E6F-4825-A8FB-2E0F085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CE2FD-42E0-460C-8D91-9E1001B4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E498-8A69-430C-B022-E744DC8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DE2D-640C-4D2D-B457-2994BE3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54D1-0F18-4DA3-A898-D99C288E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FC416-6D68-4F90-8D3D-0BCBDADB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1B97E-4DDF-442F-8349-CD1A79D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BE3-B7CD-4DD8-8CF3-0164072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E17D-4EC9-45B0-9980-FBE4254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09530-89B3-4420-9C73-58E8863A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07A9B-3BE9-4C0A-8D6C-73754C2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99828-E1FD-45BE-B9A6-EC6B306B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82530-6D39-4804-AB30-24346201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3746-C20D-42AA-84F4-36CBA808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3F4D-4E01-413A-BF45-5DD368A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2821-8BC1-4067-937E-659E95B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7593-11D1-4FEA-AD3F-4D80CFB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0876-50B3-41E1-9DEF-3176F77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0F5-2102-4E3B-B1D2-2592149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CE8E-0D10-4CCF-979A-5C3629D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A273-ACD4-43B4-A2D5-59CA8226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3E52-110A-48E1-B37B-DBD25F6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16BBB-129F-41BE-AE1E-8635FF5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B91B-61CC-4781-B651-D7ABEC5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2F93-30B9-4207-BF57-5B4647CC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9098-66BC-4A27-9762-17DE5ED7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C2A-EB29-4B5E-AAC7-3394810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DE7-ED27-40A3-B399-699B1D7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EFF-7DA8-4A38-9049-9653E58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293-D555-4767-B163-53F9E0CA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AE5-63BC-4D0D-9193-2780019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843-04F1-4795-B4E4-DDD3ABB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AE30-9EFB-4D3B-A2E7-0932ED91B88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485-FAA8-4702-849B-7D228693A62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BCA3-ACC7-462D-8414-6655867A58A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e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doub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rigonal plan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2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e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yne and 2-buty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4" name="Object 6"/>
          <p:cNvGraphicFramePr/>
          <p:nvPr/>
        </p:nvGraphicFramePr>
        <p:xfrm>
          <a:off x="324000" y="3573360"/>
          <a:ext cx="413064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73360"/>
                    <a:ext cx="413064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"/>
          <p:cNvGraphicFramePr/>
          <p:nvPr/>
        </p:nvGraphicFramePr>
        <p:xfrm>
          <a:off x="3924360" y="4076640"/>
          <a:ext cx="491328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076640"/>
                    <a:ext cx="491328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trip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4-hexadi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24000" y="3860640"/>
          <a:ext cx="84438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860640"/>
                    <a:ext cx="84438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4,5-dimethyl 2,6-octadi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76360" y="2708280"/>
          <a:ext cx="662940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662940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DOUB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doub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doub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ethyl -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1554120" y="3068640"/>
          <a:ext cx="6273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3068640"/>
                    <a:ext cx="6273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ene and 2-but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958680" y="3141720"/>
          <a:ext cx="315756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141720"/>
                    <a:ext cx="31575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4861080" y="2924280"/>
          <a:ext cx="334800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2924280"/>
                    <a:ext cx="33480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doub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pentadiene or penta-1,3-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2050920" y="3068640"/>
          <a:ext cx="488628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48862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3,6-dimethyl 1,2,4-oc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863640" y="2781360"/>
          <a:ext cx="675792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2781360"/>
                    <a:ext cx="675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trip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line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8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y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TRIP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trip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trip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,4-dimethyl 1-hex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2247840" y="2349360"/>
          <a:ext cx="60692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2349360"/>
                    <a:ext cx="60692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Rola Wansa   </cp:lastModifiedBy>
  <dcterms:modified xsi:type="dcterms:W3CDTF">2017-09-12T17:19:07Z</dcterms:modified>
  <cp:revision>60</cp:revision>
  <dc:subject/>
  <dc:title>Intro to organic chemistry (orgo)</dc:title>
</cp:coreProperties>
</file>